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6.jpeg" ContentType="image/jpeg"/>
  <Override PartName="/ppt/media/image10.png" ContentType="image/png"/>
  <Override PartName="/ppt/media/image18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1BF7-DA36-423A-8B1A-40A11AC8C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A90F-86F0-4A74-B1CD-186629E54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6F4F-1F6A-451D-B944-2A6CD69BA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19F2-B718-4059-AE39-8AA669110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C1B65-F3C9-4099-A423-22CCFD99D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D5261-F990-4B98-B218-9EEC4D6A6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ACADB-A57B-447B-B03E-5317AD97A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251D8-AD19-4045-8172-0D8975A3F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C36EC-01AB-4D04-B6C6-280F73C1A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6EAE6-FA50-4EBA-9357-074A1CAAA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A4FA5-4881-4DAD-8EBA-6BA48FCB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4C58-3AB5-4CE2-A35C-CFCBC7BB0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32D6D-D4D0-450A-B40B-593B97FE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70C41-D3A8-430C-BCB6-F0A318ED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A27A6-35B0-4936-AEBE-C3B16B5D4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355AB-1ECB-456A-8BA0-E79241AC7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30795-AD78-4AA1-A2E3-2146FEA79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DD2A87-1754-469D-89FB-1CFE696BF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08CD7B-08C9-4974-AA51-EC3676AC3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D3501E-037B-40B8-833C-83DFB0B23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291AA5-6AE1-4E72-A215-34CE860E4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4815AB-FE5E-4D09-BA04-DA339EB67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C740-6929-4679-A0B9-FF48E7DFD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2765FD-A104-4613-868D-BB56DD645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46B09E-E309-4786-9260-484F4976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276246-9EC8-490A-B70F-133AA011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E120D9-8926-4968-989B-1BDA12E1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67C9D3-F6EA-476C-AB34-BFF6F73B1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A8F426-3978-416B-9286-485D06B81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CFB1EA-4812-47E5-9707-C6B6BD97C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1093F-006B-4718-90F4-1B584791D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3F208-207A-48E5-B2E2-E73799F4D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1DBA9-C528-41D0-806D-43D224CA4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2AA4-BA52-40EF-AFAE-36194826C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DB0DE-E75F-4D9E-A825-F9B7F5EC4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8EB3A-06CA-4FE9-98C5-55B10475F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02F02-5FF5-48F1-A5DE-85E392C0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02756-FBA7-4233-B85B-0A732EC0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4A16C-CC0C-408D-BC0D-812E1508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C7B88-4327-4497-B957-F177F97D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5B89C-EA42-4B83-8DCA-DEC15E8AC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6CC8A-D38D-42A9-A9ED-274BDCF39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369CA-692B-497A-ADD1-89C1DDC7B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DEF5-02F6-4234-9946-FC557FF5E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5520-AE4C-4F0A-BBF6-D3CEBB19E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5353-73EC-4B96-9953-03586A70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971C-8877-49B8-85F0-0724E4E0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DE06-D977-419F-9985-3A93E306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ED1B5-DE83-478A-AE8E-A5AC932DDE1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F527B-6840-424F-890C-757C70D056F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FBA30-704A-4CF1-96ED-624F310C419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EB4F4-E0C0-4095-A580-031B67E94E7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Arial"/>
                <a:ea typeface="Arial"/>
              </a:rPr>
              <a:t>Ch. 55 Warm-Up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-360" y="1219320"/>
            <a:ext cx="5257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raw an energy pyramid and label the following trophic levels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914400" indent="-5144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Arial"/>
                <a:ea typeface="ＭＳ Ｐゴシック"/>
              </a:rPr>
              <a:t>Primary producer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914400" indent="-5144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Arial"/>
                <a:ea typeface="ＭＳ Ｐゴシック"/>
              </a:rPr>
              <a:t>Primary consumer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914400" indent="-5144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Arial"/>
                <a:ea typeface="ＭＳ Ｐゴシック"/>
              </a:rPr>
              <a:t>Secondary consumer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914400" indent="-5144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Arial"/>
                <a:ea typeface="ＭＳ Ｐゴシック"/>
              </a:rPr>
              <a:t>Tertiary consumer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622440" indent="-51444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an example of an organism at each level of the pyramid in #1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2440" indent="-51444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5000 J of energy is available in producers, how much of that energy would be available to tertiary consumers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2440" indent="-51444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2440" indent="-51444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TextBox 6"/>
          <p:cNvSpPr/>
          <p:nvPr/>
        </p:nvSpPr>
        <p:spPr>
          <a:xfrm>
            <a:off x="5334120" y="1125360"/>
            <a:ext cx="3657600" cy="3751560"/>
          </a:xfrm>
          <a:prstGeom prst="rect">
            <a:avLst/>
          </a:prstGeom>
          <a:solidFill>
            <a:srgbClr val="ffffff"/>
          </a:solidFill>
          <a:ln w="19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23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8080"/>
                </a:solidFill>
                <a:uFillTx/>
                <a:latin typeface="Arial"/>
                <a:ea typeface="Arial"/>
              </a:rPr>
              <a:t>Define Ch. 55 Terms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5960" indent="-234720">
              <a:lnSpc>
                <a:spcPct val="100000"/>
              </a:lnSpc>
              <a:buClr>
                <a:srgbClr val="0080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  <a:ea typeface="Arial"/>
              </a:rPr>
              <a:t>Autotro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5960" indent="-234720">
              <a:lnSpc>
                <a:spcPct val="100000"/>
              </a:lnSpc>
              <a:buClr>
                <a:srgbClr val="0080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  <a:ea typeface="Arial"/>
              </a:rPr>
              <a:t>Heterotro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5960" indent="-234720">
              <a:lnSpc>
                <a:spcPct val="100000"/>
              </a:lnSpc>
              <a:buClr>
                <a:srgbClr val="0080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  <a:ea typeface="Arial"/>
              </a:rPr>
              <a:t>Detritiv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5960" indent="-234720">
              <a:lnSpc>
                <a:spcPct val="100000"/>
              </a:lnSpc>
              <a:buClr>
                <a:srgbClr val="0080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  <a:ea typeface="Arial"/>
              </a:rPr>
              <a:t>Gross primary production (GP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5960" indent="-234720">
              <a:lnSpc>
                <a:spcPct val="100000"/>
              </a:lnSpc>
              <a:buClr>
                <a:srgbClr val="0080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  <a:ea typeface="Arial"/>
              </a:rPr>
              <a:t>Net primary production (NP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5960" indent="-234720">
              <a:lnSpc>
                <a:spcPct val="100000"/>
              </a:lnSpc>
              <a:buClr>
                <a:srgbClr val="0080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  <a:ea typeface="Arial"/>
              </a:rPr>
              <a:t>Biogeochemical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5960" indent="-234720">
              <a:lnSpc>
                <a:spcPct val="100000"/>
              </a:lnSpc>
              <a:buClr>
                <a:srgbClr val="0080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  <a:ea typeface="Arial"/>
              </a:rPr>
              <a:t>Nitrogen fix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Arial"/>
                <a:ea typeface="Arial"/>
              </a:rPr>
              <a:t>Primary Productio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59984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3399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50316"/>
                </a:solidFill>
                <a:latin typeface="Arial"/>
                <a:ea typeface="Arial"/>
              </a:rPr>
              <a:t>Primary produ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 amt.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ight energ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that is converted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hemical energ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3399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50316"/>
                </a:solidFill>
                <a:latin typeface="Arial"/>
                <a:ea typeface="Arial"/>
              </a:rPr>
              <a:t>Gross primary production (GPP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 total primary production in an ecosyste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3399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50316"/>
                </a:solidFill>
                <a:latin typeface="Arial"/>
                <a:ea typeface="Arial"/>
              </a:rPr>
              <a:t>Net primary production (NPP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 gross primary production minus the energy used by the primary producers for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respiration (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819000" indent="-245880">
              <a:lnSpc>
                <a:spcPct val="100000"/>
              </a:lnSpc>
              <a:spcBef>
                <a:spcPts val="300"/>
              </a:spcBef>
              <a:buClr>
                <a:srgbClr val="33993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Arial"/>
                <a:ea typeface="ＭＳ Ｐゴシック"/>
              </a:rPr>
              <a:t>NPP = GPP – R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3399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PP = storage of chemical energy available to consumers in an ecosyste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108" descr="_x001f_54_04NetPrimaryProduction_U.jpg                                0002A28E&#10;CS1-Vol.07                     BD7D9C21:"/>
          <p:cNvPicPr/>
          <p:nvPr/>
        </p:nvPicPr>
        <p:blipFill>
          <a:blip r:embed="rId1"/>
          <a:stretch/>
        </p:blipFill>
        <p:spPr>
          <a:xfrm>
            <a:off x="303120" y="1816200"/>
            <a:ext cx="8535960" cy="474984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4"/>
          <p:cNvSpPr/>
          <p:nvPr/>
        </p:nvSpPr>
        <p:spPr>
          <a:xfrm>
            <a:off x="1257480" y="1871640"/>
            <a:ext cx="116496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pen ocea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ntinental shel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8"/>
          <p:cNvSpPr/>
          <p:nvPr/>
        </p:nvSpPr>
        <p:spPr>
          <a:xfrm>
            <a:off x="387360" y="2587680"/>
            <a:ext cx="2030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pwelling zon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xtreme desert, rock, sand, i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9"/>
          <p:cNvSpPr/>
          <p:nvPr/>
        </p:nvSpPr>
        <p:spPr>
          <a:xfrm>
            <a:off x="1144440" y="4894200"/>
            <a:ext cx="12747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wamp and mars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ake and strea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20"/>
          <p:cNvSpPr/>
          <p:nvPr/>
        </p:nvSpPr>
        <p:spPr>
          <a:xfrm>
            <a:off x="498600" y="2941560"/>
            <a:ext cx="19191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sert and semidesert scru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ropical rain for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21"/>
          <p:cNvSpPr/>
          <p:nvPr/>
        </p:nvSpPr>
        <p:spPr>
          <a:xfrm>
            <a:off x="519120" y="4538520"/>
            <a:ext cx="18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emperate deciduous for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emperate evergreen for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22"/>
          <p:cNvSpPr/>
          <p:nvPr/>
        </p:nvSpPr>
        <p:spPr>
          <a:xfrm>
            <a:off x="797040" y="4351320"/>
            <a:ext cx="160956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ropical seasonal for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3"/>
          <p:cNvSpPr/>
          <p:nvPr/>
        </p:nvSpPr>
        <p:spPr>
          <a:xfrm>
            <a:off x="1403280" y="3300480"/>
            <a:ext cx="101916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avann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ultivated l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24"/>
          <p:cNvSpPr/>
          <p:nvPr/>
        </p:nvSpPr>
        <p:spPr>
          <a:xfrm>
            <a:off x="1028880" y="2232000"/>
            <a:ext cx="13953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stuar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lgal beds and reef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25"/>
          <p:cNvSpPr/>
          <p:nvPr/>
        </p:nvSpPr>
        <p:spPr>
          <a:xfrm>
            <a:off x="955800" y="3652920"/>
            <a:ext cx="1457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oreal forest (taiga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emperate grassl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26"/>
          <p:cNvSpPr/>
          <p:nvPr/>
        </p:nvSpPr>
        <p:spPr>
          <a:xfrm>
            <a:off x="781200" y="4005360"/>
            <a:ext cx="1635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oodland and shrubl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undr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27"/>
          <p:cNvSpPr/>
          <p:nvPr/>
        </p:nvSpPr>
        <p:spPr>
          <a:xfrm>
            <a:off x="2598840" y="4910040"/>
            <a:ext cx="245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28"/>
          <p:cNvSpPr/>
          <p:nvPr/>
        </p:nvSpPr>
        <p:spPr>
          <a:xfrm>
            <a:off x="2620800" y="4729320"/>
            <a:ext cx="24300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29"/>
          <p:cNvSpPr/>
          <p:nvPr/>
        </p:nvSpPr>
        <p:spPr>
          <a:xfrm>
            <a:off x="2614680" y="4551480"/>
            <a:ext cx="24300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0"/>
          <p:cNvSpPr/>
          <p:nvPr/>
        </p:nvSpPr>
        <p:spPr>
          <a:xfrm>
            <a:off x="2620800" y="4367160"/>
            <a:ext cx="24300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1"/>
          <p:cNvSpPr/>
          <p:nvPr/>
        </p:nvSpPr>
        <p:spPr>
          <a:xfrm>
            <a:off x="2627280" y="4189320"/>
            <a:ext cx="24300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.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2"/>
          <p:cNvSpPr/>
          <p:nvPr/>
        </p:nvSpPr>
        <p:spPr>
          <a:xfrm>
            <a:off x="2630520" y="4011480"/>
            <a:ext cx="24300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.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3"/>
          <p:cNvSpPr/>
          <p:nvPr/>
        </p:nvSpPr>
        <p:spPr>
          <a:xfrm>
            <a:off x="2637000" y="3833640"/>
            <a:ext cx="242640" cy="1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.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4"/>
          <p:cNvSpPr/>
          <p:nvPr/>
        </p:nvSpPr>
        <p:spPr>
          <a:xfrm>
            <a:off x="2649600" y="3652920"/>
            <a:ext cx="24300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5"/>
          <p:cNvSpPr/>
          <p:nvPr/>
        </p:nvSpPr>
        <p:spPr>
          <a:xfrm>
            <a:off x="2658960" y="3484440"/>
            <a:ext cx="24300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6"/>
          <p:cNvSpPr/>
          <p:nvPr/>
        </p:nvSpPr>
        <p:spPr>
          <a:xfrm>
            <a:off x="2671920" y="3300480"/>
            <a:ext cx="24264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.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7"/>
          <p:cNvSpPr/>
          <p:nvPr/>
        </p:nvSpPr>
        <p:spPr>
          <a:xfrm>
            <a:off x="2681280" y="3129120"/>
            <a:ext cx="24300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38"/>
          <p:cNvSpPr/>
          <p:nvPr/>
        </p:nvSpPr>
        <p:spPr>
          <a:xfrm>
            <a:off x="2687760" y="2951280"/>
            <a:ext cx="24264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39"/>
          <p:cNvSpPr/>
          <p:nvPr/>
        </p:nvSpPr>
        <p:spPr>
          <a:xfrm>
            <a:off x="2725560" y="2770200"/>
            <a:ext cx="24300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.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0"/>
          <p:cNvSpPr/>
          <p:nvPr/>
        </p:nvSpPr>
        <p:spPr>
          <a:xfrm>
            <a:off x="2589120" y="2243160"/>
            <a:ext cx="23328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1"/>
          <p:cNvSpPr/>
          <p:nvPr/>
        </p:nvSpPr>
        <p:spPr>
          <a:xfrm>
            <a:off x="2728800" y="2058840"/>
            <a:ext cx="24300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42"/>
          <p:cNvSpPr/>
          <p:nvPr/>
        </p:nvSpPr>
        <p:spPr>
          <a:xfrm>
            <a:off x="4106880" y="1881360"/>
            <a:ext cx="29052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65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43"/>
          <p:cNvSpPr/>
          <p:nvPr/>
        </p:nvSpPr>
        <p:spPr>
          <a:xfrm>
            <a:off x="1076400" y="6200640"/>
            <a:ext cx="181440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reshwater (on continent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4"/>
          <p:cNvSpPr/>
          <p:nvPr/>
        </p:nvSpPr>
        <p:spPr>
          <a:xfrm>
            <a:off x="1069920" y="5987880"/>
            <a:ext cx="71280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errestr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5"/>
          <p:cNvSpPr/>
          <p:nvPr/>
        </p:nvSpPr>
        <p:spPr>
          <a:xfrm>
            <a:off x="1073160" y="5791320"/>
            <a:ext cx="71280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ri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6"/>
          <p:cNvSpPr/>
          <p:nvPr/>
        </p:nvSpPr>
        <p:spPr>
          <a:xfrm>
            <a:off x="1244520" y="5479920"/>
            <a:ext cx="28116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47"/>
          <p:cNvSpPr/>
          <p:nvPr/>
        </p:nvSpPr>
        <p:spPr>
          <a:xfrm>
            <a:off x="2708280" y="5508720"/>
            <a:ext cx="14778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ercentage of Earth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urface are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8"/>
          <p:cNvSpPr/>
          <p:nvPr/>
        </p:nvSpPr>
        <p:spPr>
          <a:xfrm>
            <a:off x="4896000" y="5508720"/>
            <a:ext cx="14778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verage net primar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oduction (g/m</a:t>
            </a:r>
            <a:r>
              <a:rPr b="1" lang="en-US" sz="11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/y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49"/>
          <p:cNvSpPr/>
          <p:nvPr/>
        </p:nvSpPr>
        <p:spPr>
          <a:xfrm>
            <a:off x="4246560" y="5319720"/>
            <a:ext cx="16344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50"/>
          <p:cNvSpPr/>
          <p:nvPr/>
        </p:nvSpPr>
        <p:spPr>
          <a:xfrm>
            <a:off x="3951360" y="5316480"/>
            <a:ext cx="16344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51"/>
          <p:cNvSpPr/>
          <p:nvPr/>
        </p:nvSpPr>
        <p:spPr>
          <a:xfrm>
            <a:off x="3652920" y="5319720"/>
            <a:ext cx="16344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52"/>
          <p:cNvSpPr/>
          <p:nvPr/>
        </p:nvSpPr>
        <p:spPr>
          <a:xfrm>
            <a:off x="3341520" y="5322960"/>
            <a:ext cx="1638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53"/>
          <p:cNvSpPr/>
          <p:nvPr/>
        </p:nvSpPr>
        <p:spPr>
          <a:xfrm>
            <a:off x="3046320" y="5316480"/>
            <a:ext cx="16344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54"/>
          <p:cNvSpPr/>
          <p:nvPr/>
        </p:nvSpPr>
        <p:spPr>
          <a:xfrm>
            <a:off x="2744640" y="5322960"/>
            <a:ext cx="1638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55"/>
          <p:cNvSpPr/>
          <p:nvPr/>
        </p:nvSpPr>
        <p:spPr>
          <a:xfrm>
            <a:off x="2484360" y="5316480"/>
            <a:ext cx="16344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56"/>
          <p:cNvSpPr/>
          <p:nvPr/>
        </p:nvSpPr>
        <p:spPr>
          <a:xfrm>
            <a:off x="6246720" y="5326200"/>
            <a:ext cx="3920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,5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57"/>
          <p:cNvSpPr/>
          <p:nvPr/>
        </p:nvSpPr>
        <p:spPr>
          <a:xfrm>
            <a:off x="5891040" y="5329080"/>
            <a:ext cx="3924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,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58"/>
          <p:cNvSpPr/>
          <p:nvPr/>
        </p:nvSpPr>
        <p:spPr>
          <a:xfrm>
            <a:off x="5535720" y="5329080"/>
            <a:ext cx="3920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,5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59"/>
          <p:cNvSpPr/>
          <p:nvPr/>
        </p:nvSpPr>
        <p:spPr>
          <a:xfrm>
            <a:off x="5205240" y="5326200"/>
            <a:ext cx="3924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,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60"/>
          <p:cNvSpPr/>
          <p:nvPr/>
        </p:nvSpPr>
        <p:spPr>
          <a:xfrm>
            <a:off x="4932360" y="5329080"/>
            <a:ext cx="2714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61"/>
          <p:cNvSpPr/>
          <p:nvPr/>
        </p:nvSpPr>
        <p:spPr>
          <a:xfrm>
            <a:off x="4653000" y="5326200"/>
            <a:ext cx="16344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62"/>
          <p:cNvSpPr/>
          <p:nvPr/>
        </p:nvSpPr>
        <p:spPr>
          <a:xfrm>
            <a:off x="7048440" y="5511960"/>
            <a:ext cx="17607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ercentage of Earth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 n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imary produc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63"/>
          <p:cNvSpPr/>
          <p:nvPr/>
        </p:nvSpPr>
        <p:spPr>
          <a:xfrm>
            <a:off x="8491680" y="5324400"/>
            <a:ext cx="16344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64"/>
          <p:cNvSpPr/>
          <p:nvPr/>
        </p:nvSpPr>
        <p:spPr>
          <a:xfrm>
            <a:off x="8142120" y="5315040"/>
            <a:ext cx="1638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65"/>
          <p:cNvSpPr/>
          <p:nvPr/>
        </p:nvSpPr>
        <p:spPr>
          <a:xfrm>
            <a:off x="7808760" y="5318280"/>
            <a:ext cx="1638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66"/>
          <p:cNvSpPr/>
          <p:nvPr/>
        </p:nvSpPr>
        <p:spPr>
          <a:xfrm>
            <a:off x="7453440" y="5321160"/>
            <a:ext cx="16344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67"/>
          <p:cNvSpPr/>
          <p:nvPr/>
        </p:nvSpPr>
        <p:spPr>
          <a:xfrm>
            <a:off x="7113600" y="5324400"/>
            <a:ext cx="16344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68"/>
          <p:cNvSpPr/>
          <p:nvPr/>
        </p:nvSpPr>
        <p:spPr>
          <a:xfrm>
            <a:off x="6815160" y="5318280"/>
            <a:ext cx="16344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69"/>
          <p:cNvSpPr/>
          <p:nvPr/>
        </p:nvSpPr>
        <p:spPr>
          <a:xfrm>
            <a:off x="4829040" y="1873080"/>
            <a:ext cx="24300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70"/>
          <p:cNvSpPr/>
          <p:nvPr/>
        </p:nvSpPr>
        <p:spPr>
          <a:xfrm>
            <a:off x="6029280" y="2422440"/>
            <a:ext cx="36360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2,5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71"/>
          <p:cNvSpPr/>
          <p:nvPr/>
        </p:nvSpPr>
        <p:spPr>
          <a:xfrm>
            <a:off x="4971960" y="2050920"/>
            <a:ext cx="24300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6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72"/>
          <p:cNvSpPr/>
          <p:nvPr/>
        </p:nvSpPr>
        <p:spPr>
          <a:xfrm>
            <a:off x="5749920" y="2225520"/>
            <a:ext cx="37620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,5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73"/>
          <p:cNvSpPr/>
          <p:nvPr/>
        </p:nvSpPr>
        <p:spPr>
          <a:xfrm>
            <a:off x="5067360" y="2603520"/>
            <a:ext cx="24300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74"/>
          <p:cNvSpPr/>
          <p:nvPr/>
        </p:nvSpPr>
        <p:spPr>
          <a:xfrm>
            <a:off x="4727520" y="2778120"/>
            <a:ext cx="24300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75"/>
          <p:cNvSpPr/>
          <p:nvPr/>
        </p:nvSpPr>
        <p:spPr>
          <a:xfrm>
            <a:off x="4791240" y="2952720"/>
            <a:ext cx="24264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76"/>
          <p:cNvSpPr/>
          <p:nvPr/>
        </p:nvSpPr>
        <p:spPr>
          <a:xfrm>
            <a:off x="5337000" y="3314880"/>
            <a:ext cx="24300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77"/>
          <p:cNvSpPr/>
          <p:nvPr/>
        </p:nvSpPr>
        <p:spPr>
          <a:xfrm>
            <a:off x="5133960" y="3489480"/>
            <a:ext cx="24300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78"/>
          <p:cNvSpPr/>
          <p:nvPr/>
        </p:nvSpPr>
        <p:spPr>
          <a:xfrm>
            <a:off x="5273640" y="3666960"/>
            <a:ext cx="24300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79"/>
          <p:cNvSpPr/>
          <p:nvPr/>
        </p:nvSpPr>
        <p:spPr>
          <a:xfrm>
            <a:off x="6229440" y="3133800"/>
            <a:ext cx="38880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,2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80"/>
          <p:cNvSpPr/>
          <p:nvPr/>
        </p:nvSpPr>
        <p:spPr>
          <a:xfrm>
            <a:off x="5133960" y="3844800"/>
            <a:ext cx="24912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81"/>
          <p:cNvSpPr/>
          <p:nvPr/>
        </p:nvSpPr>
        <p:spPr>
          <a:xfrm>
            <a:off x="4886280" y="5089680"/>
            <a:ext cx="38916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82"/>
          <p:cNvSpPr/>
          <p:nvPr/>
        </p:nvSpPr>
        <p:spPr>
          <a:xfrm>
            <a:off x="5816520" y="4378320"/>
            <a:ext cx="38916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,6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83"/>
          <p:cNvSpPr/>
          <p:nvPr/>
        </p:nvSpPr>
        <p:spPr>
          <a:xfrm>
            <a:off x="5543640" y="4549680"/>
            <a:ext cx="38880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,2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84"/>
          <p:cNvSpPr/>
          <p:nvPr/>
        </p:nvSpPr>
        <p:spPr>
          <a:xfrm>
            <a:off x="5610240" y="4727520"/>
            <a:ext cx="38880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,3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85"/>
          <p:cNvSpPr/>
          <p:nvPr/>
        </p:nvSpPr>
        <p:spPr>
          <a:xfrm>
            <a:off x="6095880" y="4908600"/>
            <a:ext cx="38916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,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86"/>
          <p:cNvSpPr/>
          <p:nvPr/>
        </p:nvSpPr>
        <p:spPr>
          <a:xfrm>
            <a:off x="5200560" y="4022640"/>
            <a:ext cx="24948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87"/>
          <p:cNvSpPr/>
          <p:nvPr/>
        </p:nvSpPr>
        <p:spPr>
          <a:xfrm>
            <a:off x="4800600" y="4194000"/>
            <a:ext cx="249120" cy="1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88"/>
          <p:cNvSpPr/>
          <p:nvPr/>
        </p:nvSpPr>
        <p:spPr>
          <a:xfrm>
            <a:off x="6915240" y="5083200"/>
            <a:ext cx="24912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89"/>
          <p:cNvSpPr/>
          <p:nvPr/>
        </p:nvSpPr>
        <p:spPr>
          <a:xfrm>
            <a:off x="7451640" y="3305160"/>
            <a:ext cx="24948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.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90"/>
          <p:cNvSpPr/>
          <p:nvPr/>
        </p:nvSpPr>
        <p:spPr>
          <a:xfrm>
            <a:off x="7543800" y="3486240"/>
            <a:ext cx="24912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91"/>
          <p:cNvSpPr/>
          <p:nvPr/>
        </p:nvSpPr>
        <p:spPr>
          <a:xfrm>
            <a:off x="7559640" y="3660840"/>
            <a:ext cx="24912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92"/>
          <p:cNvSpPr/>
          <p:nvPr/>
        </p:nvSpPr>
        <p:spPr>
          <a:xfrm>
            <a:off x="7273800" y="3838680"/>
            <a:ext cx="24948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93"/>
          <p:cNvSpPr/>
          <p:nvPr/>
        </p:nvSpPr>
        <p:spPr>
          <a:xfrm>
            <a:off x="7147080" y="4016520"/>
            <a:ext cx="24912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94"/>
          <p:cNvSpPr/>
          <p:nvPr/>
        </p:nvSpPr>
        <p:spPr>
          <a:xfrm>
            <a:off x="6943680" y="4194000"/>
            <a:ext cx="249120" cy="1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95"/>
          <p:cNvSpPr/>
          <p:nvPr/>
        </p:nvSpPr>
        <p:spPr>
          <a:xfrm>
            <a:off x="7385040" y="4371840"/>
            <a:ext cx="24912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96"/>
          <p:cNvSpPr/>
          <p:nvPr/>
        </p:nvSpPr>
        <p:spPr>
          <a:xfrm>
            <a:off x="7242120" y="4549680"/>
            <a:ext cx="24912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.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97"/>
          <p:cNvSpPr/>
          <p:nvPr/>
        </p:nvSpPr>
        <p:spPr>
          <a:xfrm>
            <a:off x="7169040" y="4727520"/>
            <a:ext cx="24948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.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98"/>
          <p:cNvSpPr/>
          <p:nvPr/>
        </p:nvSpPr>
        <p:spPr>
          <a:xfrm>
            <a:off x="7058160" y="4902120"/>
            <a:ext cx="24912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99"/>
          <p:cNvSpPr/>
          <p:nvPr/>
        </p:nvSpPr>
        <p:spPr>
          <a:xfrm>
            <a:off x="8204040" y="1882800"/>
            <a:ext cx="28764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24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100"/>
          <p:cNvSpPr/>
          <p:nvPr/>
        </p:nvSpPr>
        <p:spPr>
          <a:xfrm>
            <a:off x="7270920" y="2060640"/>
            <a:ext cx="24912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.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101"/>
          <p:cNvSpPr/>
          <p:nvPr/>
        </p:nvSpPr>
        <p:spPr>
          <a:xfrm>
            <a:off x="6972480" y="2241720"/>
            <a:ext cx="24912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102"/>
          <p:cNvSpPr/>
          <p:nvPr/>
        </p:nvSpPr>
        <p:spPr>
          <a:xfrm>
            <a:off x="6962760" y="2419200"/>
            <a:ext cx="24912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103"/>
          <p:cNvSpPr/>
          <p:nvPr/>
        </p:nvSpPr>
        <p:spPr>
          <a:xfrm>
            <a:off x="6902280" y="2590920"/>
            <a:ext cx="24948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104"/>
          <p:cNvSpPr/>
          <p:nvPr/>
        </p:nvSpPr>
        <p:spPr>
          <a:xfrm>
            <a:off x="6902280" y="2771640"/>
            <a:ext cx="2970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.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105"/>
          <p:cNvSpPr/>
          <p:nvPr/>
        </p:nvSpPr>
        <p:spPr>
          <a:xfrm>
            <a:off x="6962760" y="2952720"/>
            <a:ext cx="24912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106"/>
          <p:cNvSpPr/>
          <p:nvPr/>
        </p:nvSpPr>
        <p:spPr>
          <a:xfrm>
            <a:off x="8420040" y="3121200"/>
            <a:ext cx="24912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51920" y="606600"/>
            <a:ext cx="89154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rebuchet MS"/>
              </a:rPr>
              <a:t>Net primary production of different ecosystems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304560" y="664920"/>
            <a:ext cx="8381880" cy="50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imary production affected by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Arial"/>
                <a:ea typeface="ＭＳ Ｐゴシック"/>
              </a:rPr>
              <a:t>Light availability (</a:t>
            </a:r>
            <a:r>
              <a:rPr b="0" lang="en-US" sz="2800" spc="-1" strike="noStrike">
                <a:solidFill>
                  <a:srgbClr val="438086"/>
                </a:solidFill>
                <a:latin typeface="Garamond"/>
                <a:ea typeface="ＭＳ Ｐゴシック"/>
              </a:rPr>
              <a:t>↑</a:t>
            </a:r>
            <a:r>
              <a:rPr b="0" lang="en-US" sz="2800" spc="-1" strike="noStrike">
                <a:solidFill>
                  <a:srgbClr val="438086"/>
                </a:solidFill>
                <a:latin typeface="Arial"/>
                <a:ea typeface="ＭＳ Ｐゴシック"/>
              </a:rPr>
              <a:t> depth, ↓ photosynthesis)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Arial"/>
                <a:ea typeface="ＭＳ Ｐゴシック"/>
              </a:rPr>
              <a:t>Nutrient availability (N, P in marine env.)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ey factors controlling primary production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Arial"/>
                <a:ea typeface="ＭＳ Ｐゴシック"/>
              </a:rPr>
              <a:t>Temperature &amp; moisture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nutrient-rich lake that supports algae growth is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eutroph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28" name="Picture 2" descr="54_07Eutrophication_UP"/>
          <p:cNvPicPr/>
          <p:nvPr/>
        </p:nvPicPr>
        <p:blipFill>
          <a:blip r:embed="rId1"/>
          <a:stretch/>
        </p:blipFill>
        <p:spPr>
          <a:xfrm>
            <a:off x="3048120" y="4038480"/>
            <a:ext cx="3281400" cy="25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55_10_EnergyPartitioning-L.jpg"/>
          <p:cNvPicPr/>
          <p:nvPr/>
        </p:nvPicPr>
        <p:blipFill>
          <a:blip r:embed="rId1"/>
          <a:stretch/>
        </p:blipFill>
        <p:spPr>
          <a:xfrm>
            <a:off x="4191120" y="3048120"/>
            <a:ext cx="4779720" cy="36367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28600" y="674640"/>
            <a:ext cx="8763120" cy="10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Arial"/>
                <a:ea typeface="Arial"/>
              </a:rPr>
              <a:t>Energy transfer between trophic levels is typically only 10% efficient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1" name="Line 5"/>
          <p:cNvSpPr/>
          <p:nvPr/>
        </p:nvSpPr>
        <p:spPr>
          <a:xfrm>
            <a:off x="152280" y="19051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228600" y="2057400"/>
            <a:ext cx="4648320" cy="31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3399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duction efficiency: only fraction of E stored in foo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3399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nergy used in respiration is lost as </a:t>
            </a:r>
            <a:r>
              <a:rPr b="1" lang="en-US" sz="2800" spc="-1" strike="noStrike" u="sng">
                <a:solidFill>
                  <a:srgbClr val="b50316"/>
                </a:solidFill>
                <a:uFillTx/>
                <a:latin typeface="Arial"/>
                <a:ea typeface="Arial"/>
              </a:rPr>
              <a:t>he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3399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nergy flow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(not cycle!) within ecosystem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1" descr="55_11NetProductPyramid-L.jpg"/>
          <p:cNvPicPr/>
          <p:nvPr/>
        </p:nvPicPr>
        <p:blipFill>
          <a:blip r:embed="rId1"/>
          <a:stretch/>
        </p:blipFill>
        <p:spPr>
          <a:xfrm>
            <a:off x="304920" y="1066680"/>
            <a:ext cx="8397720" cy="533736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3"/>
          <p:cNvSpPr/>
          <p:nvPr/>
        </p:nvSpPr>
        <p:spPr>
          <a:xfrm>
            <a:off x="5638680" y="838080"/>
            <a:ext cx="335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10% transfer of energy from one level to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50316"/>
                </a:solidFill>
                <a:latin typeface="Arial"/>
                <a:ea typeface="Arial"/>
              </a:rPr>
              <a:t>Ecological pyramids </a:t>
            </a:r>
            <a:r>
              <a:rPr b="0" lang="en-US" sz="3200" spc="-1" strike="noStrike">
                <a:solidFill>
                  <a:srgbClr val="424456"/>
                </a:solidFill>
                <a:latin typeface="Arial"/>
                <a:ea typeface="Arial"/>
              </a:rPr>
              <a:t>give insight to food chains</a:t>
            </a:r>
            <a:br>
              <a:rPr sz="3200"/>
            </a:b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36" name="Picture 4" descr=""/>
          <p:cNvPicPr/>
          <p:nvPr/>
        </p:nvPicPr>
        <p:blipFill>
          <a:blip r:embed="rId1"/>
          <a:srcRect l="0" t="0" r="0" b="39376"/>
          <a:stretch/>
        </p:blipFill>
        <p:spPr>
          <a:xfrm>
            <a:off x="3581280" y="4191120"/>
            <a:ext cx="5257800" cy="22874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5" descr=""/>
          <p:cNvPicPr/>
          <p:nvPr/>
        </p:nvPicPr>
        <p:blipFill>
          <a:blip r:embed="rId2"/>
          <a:srcRect l="0" t="0" r="0" b="5625"/>
          <a:stretch/>
        </p:blipFill>
        <p:spPr>
          <a:xfrm>
            <a:off x="3505320" y="1752480"/>
            <a:ext cx="5333760" cy="2127240"/>
          </a:xfrm>
          <a:prstGeom prst="rect">
            <a:avLst/>
          </a:prstGeom>
          <a:ln w="0">
            <a:noFill/>
          </a:ln>
        </p:spPr>
      </p:pic>
      <p:sp>
        <p:nvSpPr>
          <p:cNvPr id="338" name="TextBox 6"/>
          <p:cNvSpPr/>
          <p:nvPr/>
        </p:nvSpPr>
        <p:spPr>
          <a:xfrm>
            <a:off x="4398840" y="3800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Pyramid of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Box 7"/>
          <p:cNvSpPr/>
          <p:nvPr/>
        </p:nvSpPr>
        <p:spPr>
          <a:xfrm>
            <a:off x="4648320" y="63198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Pyramid of Biom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Box 8"/>
          <p:cNvSpPr/>
          <p:nvPr/>
        </p:nvSpPr>
        <p:spPr>
          <a:xfrm>
            <a:off x="76320" y="2362320"/>
            <a:ext cx="358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ss of energy limits # of top-level carniv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st food webs only have 4 or 5 trophic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9" descr="_x001d_54_14TrophicLevelEnergy_U.jpg                                  0002A28E&#10;CS1-Vol.07                     BD7D9C21:"/>
          <p:cNvPicPr/>
          <p:nvPr/>
        </p:nvPicPr>
        <p:blipFill>
          <a:blip r:embed="rId1"/>
          <a:stretch/>
        </p:blipFill>
        <p:spPr>
          <a:xfrm>
            <a:off x="303120" y="2641680"/>
            <a:ext cx="8535960" cy="370656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3"/>
          <p:cNvSpPr/>
          <p:nvPr/>
        </p:nvSpPr>
        <p:spPr>
          <a:xfrm>
            <a:off x="420840" y="2668680"/>
            <a:ext cx="14983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ophi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5"/>
          <p:cNvSpPr/>
          <p:nvPr/>
        </p:nvSpPr>
        <p:spPr>
          <a:xfrm>
            <a:off x="469800" y="3201840"/>
            <a:ext cx="144324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a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um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7"/>
          <p:cNvSpPr/>
          <p:nvPr/>
        </p:nvSpPr>
        <p:spPr>
          <a:xfrm>
            <a:off x="471600" y="4187880"/>
            <a:ext cx="144288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ma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um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8"/>
          <p:cNvSpPr/>
          <p:nvPr/>
        </p:nvSpPr>
        <p:spPr>
          <a:xfrm>
            <a:off x="465120" y="5300640"/>
            <a:ext cx="144288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ma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2"/>
          <p:cNvSpPr/>
          <p:nvPr/>
        </p:nvSpPr>
        <p:spPr>
          <a:xfrm>
            <a:off x="228600" y="914400"/>
            <a:ext cx="8686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  <a:ea typeface="Arial"/>
              </a:rPr>
              <a:t>The dynamics of energy through ecosystems have important implications for the human popul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Arial"/>
                <a:ea typeface="Arial"/>
              </a:rPr>
              <a:t>Matter Cycles in Ecosystem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57200" y="15998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Biogeochemical cyc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 nutrient cycles that contain both biotic and abiotic componen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rganic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norganic parts of an ecosyste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utrient Cycles: water, carbon, nitrogen, phosphoru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3" descr="55_13NutrientCycling-L.jpg"/>
          <p:cNvPicPr/>
          <p:nvPr/>
        </p:nvPicPr>
        <p:blipFill>
          <a:blip r:embed="rId1"/>
          <a:stretch/>
        </p:blipFill>
        <p:spPr>
          <a:xfrm>
            <a:off x="1630440" y="0"/>
            <a:ext cx="5898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Water Cycl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51" name="Picture 13" descr="55_14aWaterCycle-L.jpg"/>
          <p:cNvPicPr/>
          <p:nvPr/>
        </p:nvPicPr>
        <p:blipFill>
          <a:blip r:embed="rId1"/>
          <a:stretch/>
        </p:blipFill>
        <p:spPr>
          <a:xfrm>
            <a:off x="1752480" y="1071720"/>
            <a:ext cx="565812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hapter 55: Ecosystem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18" name="Picture 3" descr="55_02DesertSpring-L.jpg"/>
          <p:cNvPicPr/>
          <p:nvPr/>
        </p:nvPicPr>
        <p:blipFill>
          <a:blip r:embed="rId1"/>
          <a:stretch/>
        </p:blipFill>
        <p:spPr>
          <a:xfrm>
            <a:off x="1143000" y="1981080"/>
            <a:ext cx="698040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Arial"/>
                <a:ea typeface="Arial"/>
              </a:rPr>
              <a:t>Carbon Cycl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5943240" y="1599840"/>
            <a:ext cx="3048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CO</a:t>
            </a:r>
            <a:r>
              <a:rPr b="0" lang="en-US" sz="2400" spc="-1" strike="noStrike" baseline="-25000">
                <a:solidFill>
                  <a:srgbClr val="c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 removed by photosynthesis, added by burning fossil fuel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4" name="Picture 14" descr="55_14bCarbonCycle-L.jpg"/>
          <p:cNvPicPr/>
          <p:nvPr/>
        </p:nvPicPr>
        <p:blipFill>
          <a:blip r:embed="rId1"/>
          <a:stretch/>
        </p:blipFill>
        <p:spPr>
          <a:xfrm>
            <a:off x="243000" y="888840"/>
            <a:ext cx="5852880" cy="59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0199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Arial"/>
                <a:ea typeface="Arial"/>
              </a:rPr>
              <a:t>Nitrogen Cycl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5029200" y="1523520"/>
            <a:ext cx="4114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Nitrogen fixation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Arial"/>
                <a:ea typeface="ＭＳ Ｐゴシック"/>
              </a:rPr>
              <a:t>N</a:t>
            </a:r>
            <a:r>
              <a:rPr b="0" lang="en-US" sz="2200" spc="-1" strike="noStrike" baseline="-25000">
                <a:solidFill>
                  <a:srgbClr val="438086"/>
                </a:solidFill>
                <a:latin typeface="Arial"/>
                <a:ea typeface="ＭＳ Ｐゴシック"/>
              </a:rPr>
              <a:t>2</a:t>
            </a:r>
            <a:r>
              <a:rPr b="0" lang="en-US" sz="2200" spc="-1" strike="noStrike">
                <a:solidFill>
                  <a:srgbClr val="438086"/>
                </a:solidFill>
                <a:latin typeface="Arial"/>
                <a:ea typeface="ＭＳ Ｐゴシック"/>
              </a:rPr>
              <a:t> </a:t>
            </a:r>
            <a:r>
              <a:rPr b="0" lang="en-US" sz="2200" spc="-1" strike="noStrike">
                <a:solidFill>
                  <a:srgbClr val="438086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438086"/>
                </a:solidFill>
                <a:latin typeface="Arial"/>
                <a:ea typeface="ＭＳ Ｐゴシック"/>
              </a:rPr>
              <a:t> plants by bacteria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Nitrification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Arial"/>
                <a:ea typeface="ＭＳ Ｐゴシック"/>
              </a:rPr>
              <a:t>ammonium </a:t>
            </a:r>
            <a:r>
              <a:rPr b="0" lang="en-US" sz="2200" spc="-1" strike="noStrike">
                <a:solidFill>
                  <a:srgbClr val="438086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438086"/>
                </a:solidFill>
                <a:latin typeface="Arial"/>
                <a:ea typeface="ＭＳ Ｐゴシック"/>
              </a:rPr>
              <a:t> nitrite </a:t>
            </a:r>
            <a:r>
              <a:rPr b="0" lang="en-US" sz="2200" spc="-1" strike="noStrike">
                <a:solidFill>
                  <a:srgbClr val="438086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438086"/>
                </a:solidFill>
                <a:latin typeface="Arial"/>
                <a:ea typeface="ＭＳ Ｐゴシック"/>
              </a:rPr>
              <a:t> nitrate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Arial"/>
                <a:ea typeface="ＭＳ Ｐゴシック"/>
              </a:rPr>
              <a:t>Absorbed by plants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Denitr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Arial"/>
                <a:ea typeface="ＭＳ Ｐゴシック"/>
              </a:rPr>
              <a:t>Release N to atmosphere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7" name="Picture 19" descr="55_14caNitrogenCycle-L.jpg"/>
          <p:cNvPicPr/>
          <p:nvPr/>
        </p:nvPicPr>
        <p:blipFill>
          <a:blip r:embed="rId1"/>
          <a:stretch/>
        </p:blipFill>
        <p:spPr>
          <a:xfrm>
            <a:off x="115920" y="1432080"/>
            <a:ext cx="52941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Phosphorus Cycl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59" name="Picture 15" descr="55_14dPhosphorusCycle-L.jpg"/>
          <p:cNvPicPr/>
          <p:nvPr/>
        </p:nvPicPr>
        <p:blipFill>
          <a:blip r:embed="rId1"/>
          <a:stretch/>
        </p:blipFill>
        <p:spPr>
          <a:xfrm>
            <a:off x="1676520" y="914400"/>
            <a:ext cx="58118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Arial"/>
                <a:ea typeface="Arial"/>
              </a:rPr>
              <a:t>Restoration Ecology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447560"/>
            <a:ext cx="8229600" cy="49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Bioremedi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 use of organisms (prokaryotes, fungi, plants) to detoxify polluted ecosystem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Bioaugment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 introduce desirable species (eg. nitrogen-fixers) to add essential nutrien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2" name="Picture 4" descr="55_17_MineRestoration-L.jpg"/>
          <p:cNvPicPr/>
          <p:nvPr/>
        </p:nvPicPr>
        <p:blipFill>
          <a:blip r:embed="rId1"/>
          <a:stretch/>
        </p:blipFill>
        <p:spPr>
          <a:xfrm>
            <a:off x="304920" y="3657600"/>
            <a:ext cx="85471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55_19bRestorationEcology-L.jpg"/>
          <p:cNvPicPr/>
          <p:nvPr/>
        </p:nvPicPr>
        <p:blipFill>
          <a:blip r:embed="rId1"/>
          <a:stretch/>
        </p:blipFill>
        <p:spPr>
          <a:xfrm>
            <a:off x="380880" y="3363840"/>
            <a:ext cx="3886200" cy="34941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" descr="55_19eRestorationEcology-L.jpg"/>
          <p:cNvPicPr/>
          <p:nvPr/>
        </p:nvPicPr>
        <p:blipFill>
          <a:blip r:embed="rId2"/>
          <a:stretch/>
        </p:blipFill>
        <p:spPr>
          <a:xfrm>
            <a:off x="4572000" y="3394080"/>
            <a:ext cx="4191120" cy="34639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5" descr="55_18aBioremediation-L.jpg"/>
          <p:cNvPicPr/>
          <p:nvPr/>
        </p:nvPicPr>
        <p:blipFill>
          <a:blip r:embed="rId3"/>
          <a:stretch/>
        </p:blipFill>
        <p:spPr>
          <a:xfrm>
            <a:off x="4267080" y="0"/>
            <a:ext cx="4191120" cy="3171960"/>
          </a:xfrm>
          <a:prstGeom prst="rect">
            <a:avLst/>
          </a:prstGeom>
          <a:ln w="0">
            <a:noFill/>
          </a:ln>
        </p:spPr>
      </p:pic>
      <p:sp>
        <p:nvSpPr>
          <p:cNvPr id="366" name="TextBox 6"/>
          <p:cNvSpPr/>
          <p:nvPr/>
        </p:nvSpPr>
        <p:spPr>
          <a:xfrm>
            <a:off x="304920" y="91440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oremediation of groundwater contaminated with uran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Box 7"/>
          <p:cNvSpPr/>
          <p:nvPr/>
        </p:nvSpPr>
        <p:spPr>
          <a:xfrm>
            <a:off x="2057400" y="3581280"/>
            <a:ext cx="518148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toration ecology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Arial"/>
                <a:ea typeface="Arial"/>
              </a:rPr>
              <a:t>You Must Know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822960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ow energy flows through the ecosystem (food chains and food webs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difference between gross primary productivity and net primary productivity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carbon and nitrogen biogeochemical cycle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Arial"/>
                <a:ea typeface="Arial"/>
              </a:rPr>
              <a:t>Ecosystem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Ecosyst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sum of all the organisms living within its boundaries (biotic community) + abiotic factors with which they interac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volves two unique processes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14400" indent="-5144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Arial"/>
                <a:ea typeface="ＭＳ Ｐゴシック"/>
              </a:rPr>
              <a:t>Energy flow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lvl="1" marL="914400" indent="-5144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Arial"/>
                <a:ea typeface="ＭＳ Ｐゴシック"/>
              </a:rPr>
              <a:t>Chemical cycling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Trebuchet MS"/>
              </a:rPr>
              <a:t>Overview of energy &amp; nutrient dynamics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4" name="Picture 6" descr="55_04EnergyNutrientFlow-L.jpg"/>
          <p:cNvPicPr/>
          <p:nvPr/>
        </p:nvPicPr>
        <p:blipFill>
          <a:blip r:embed="rId1"/>
          <a:stretch/>
        </p:blipFill>
        <p:spPr>
          <a:xfrm>
            <a:off x="709560" y="1468440"/>
            <a:ext cx="774864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7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33"/>
                </a:solidFill>
                <a:latin typeface="Arial"/>
                <a:ea typeface="Arial"/>
              </a:rPr>
              <a:t>Energy Flow in an Ecosystem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228600" y="1676520"/>
            <a:ext cx="8686800" cy="40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3399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Energy cannot be recycled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must be constantly supplied to an ecosystem (mostly by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S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3399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autotroph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(“self feeders”) are the </a:t>
            </a:r>
            <a:r>
              <a:rPr b="1" lang="en-US" sz="2800" spc="-1" strike="noStrike">
                <a:solidFill>
                  <a:srgbClr val="339966"/>
                </a:solidFill>
                <a:latin typeface="Arial"/>
                <a:ea typeface="Arial"/>
              </a:rPr>
              <a:t>primary produc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and are usually photosynthetic (plants or algae)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33993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Arial"/>
                <a:ea typeface="ＭＳ Ｐゴシック"/>
              </a:rPr>
              <a:t>They use light energy to synthesize sugars and other organic compounds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3399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Heterotroph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(“other feeders”) – can’t make own foo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Line 5"/>
          <p:cNvSpPr/>
          <p:nvPr/>
        </p:nvSpPr>
        <p:spPr>
          <a:xfrm>
            <a:off x="152280" y="14479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228240" y="685800"/>
            <a:ext cx="3429000" cy="32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3399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eterotroph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t trophic level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bove the prima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ducers an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pend on thei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hotosynthetic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utput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rcRect l="0" t="0" r="0" b="4000"/>
          <a:stretch/>
        </p:blipFill>
        <p:spPr>
          <a:xfrm>
            <a:off x="4191120" y="304920"/>
            <a:ext cx="46180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914040"/>
            <a:ext cx="8686800" cy="53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33993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erbivores that eat primary producers are called </a:t>
            </a:r>
            <a:r>
              <a:rPr b="1" lang="en-US" sz="30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primary consumer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3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33993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rnivores that eat herbivores are called </a:t>
            </a:r>
            <a:r>
              <a:rPr b="1" lang="en-US" sz="30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secondary consumer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3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33993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rnivores that eat secondary consumers are called </a:t>
            </a:r>
            <a:r>
              <a:rPr b="1" lang="en-US" sz="30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tertiary consumer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3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33993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other important group of heterotrophs is the </a:t>
            </a:r>
            <a:r>
              <a:rPr b="1" lang="en-US" sz="30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detritivor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or </a:t>
            </a:r>
            <a:r>
              <a:rPr b="1" lang="en-US" sz="30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decomposer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3000" spc="-1" strike="noStrike">
              <a:solidFill>
                <a:srgbClr val="438086"/>
              </a:solidFill>
              <a:latin typeface="Georgia"/>
            </a:endParaRPr>
          </a:p>
          <a:p>
            <a:pPr lvl="2" marL="1085760" indent="-218880">
              <a:lnSpc>
                <a:spcPct val="100000"/>
              </a:lnSpc>
              <a:spcBef>
                <a:spcPts val="300"/>
              </a:spcBef>
              <a:buClr>
                <a:srgbClr val="3399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y get energy from detritus, nonliving organic material, and play an important role in material cycling.</a:t>
            </a:r>
            <a:endParaRPr b="0" lang="en-US" sz="30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31680" y="1752480"/>
            <a:ext cx="461664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57360" indent="-246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  <a:ea typeface="ＭＳ Ｐゴシック"/>
              </a:rPr>
              <a:t>Main decomposers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:</a:t>
            </a:r>
            <a:endParaRPr b="0" lang="en-US" sz="3200" spc="-1" strike="noStrike">
              <a:solidFill>
                <a:srgbClr val="438086"/>
              </a:solidFill>
              <a:latin typeface="Georgia"/>
            </a:endParaRPr>
          </a:p>
          <a:p>
            <a:pPr lvl="2" marL="676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fungi &amp; prokaryotes</a:t>
            </a:r>
            <a:endParaRPr b="0" lang="en-US" sz="3200" spc="-1" strike="noStrike">
              <a:solidFill>
                <a:srgbClr val="53548a"/>
              </a:solidFill>
              <a:latin typeface="Georgia"/>
            </a:endParaRPr>
          </a:p>
        </p:txBody>
      </p:sp>
      <p:pic>
        <p:nvPicPr>
          <p:cNvPr id="232" name="Picture 1" descr="55_03DecomposingTree-L.jpg"/>
          <p:cNvPicPr/>
          <p:nvPr/>
        </p:nvPicPr>
        <p:blipFill>
          <a:blip r:embed="rId1"/>
          <a:stretch/>
        </p:blipFill>
        <p:spPr>
          <a:xfrm>
            <a:off x="4648320" y="482760"/>
            <a:ext cx="4290840" cy="63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1:39:32Z</dcterms:created>
  <dc:creator>Karl Miyajima</dc:creator>
  <dc:description/>
  <dc:language>en-US</dc:language>
  <cp:lastModifiedBy>local</cp:lastModifiedBy>
  <cp:lastPrinted>2001-01-06T03:20:03Z</cp:lastPrinted>
  <dcterms:modified xsi:type="dcterms:W3CDTF">2012-08-31T16:54:49Z</dcterms:modified>
  <cp:revision>319</cp:revision>
  <dc:subject/>
  <dc:title>Nerve activates contraction</dc:title>
</cp:coreProperties>
</file>